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5F6E-5415-450A-BEFC-5EDB43A0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8E5C-1A9B-4140-B4D7-9BBCC283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CE35-3013-48FC-9FA4-31AD6FB1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D0A7-EFB3-4D2A-9C43-DA873D78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835-CEF8-4F37-A2F9-3A8240FB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97D-4C4E-4E3E-BC7F-395F62B0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2BB4-4760-49F2-BE3A-0D823F45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D2E8-9171-4A6B-8318-2B742571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7B9-7E63-4CEC-88DF-061C092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EB1D-A2AC-4B66-9DF3-CF75CA0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599D-1254-4778-A9A2-A60C9D4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114E-B469-45F0-91D8-83C22E2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41FA-DD1E-4A6C-9590-EA29263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7EBA-A976-44C2-B6F6-482EB1B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E7F4-CF15-40F6-8129-5BEEFEB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878-B70D-4022-89D1-1C3EE154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9D9-053E-46AA-A1FB-74A01DD3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3108-B76E-4550-95E3-4736CC30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E3DB-8B62-4922-91D5-7BB33CEC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52DD-25A9-4968-B047-EF42F5C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194E-B136-4850-927E-373939D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E12E-963E-4FE8-A8D0-B105D01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2214-6C9C-46E9-923D-0262B97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31F2-2011-4ECA-A0D9-DAF9A8A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D77-B562-48AC-A3AA-AB89FDA8C67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DE3F-DB3D-4317-8276-CA7138D8AD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Garamond"/>
                <a:ea typeface="楷体_GB2312"/>
              </a:rPr>
              <a:t>第四单元复习课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由于石油资源的逐渐减少乃至最终枯竭，全世界将面临严重的能源危机，因此，世界各国都在积极寻找能够替代石油产品的可再生能源，其中，生物柴油就是一种重要的生物能源。提起生物柴油的原料，我们可能会想到油菜和大豆，用它们“体内”的油脂加工而成的生物柴油，能有效降低碳排放。然而，这两种作物的培育周期较长，占用农田较多，会产生“与人争粮，与粮争地”问题，从而导致“解决了能源危机，却出现粮食危机”的尴尬结果。此时，微藻进入了科学家们的视线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微藻是一种古老的低等植物，广泛地分布在海洋、淡水湖泊等水域，种类繁多。微藻可直接利用阳光、二氧化碳和含氮、磷等元素的简单营养物质快速生长，并在细胞内合成大量油脂。因此，微藻为生物柴油生产提供了新的油脂资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与大豆、油菜和麻风树等油料植物相比，微藻的生长周期短，从初生到可以制油仅需一个星期左右，而大豆等油料植物一般需要几个月。此外，微藻的含油量高，油脂产率高，单位面积产油量是大豆的数百倍，每公顷可年产几万升生物柴油。微藻还不会占用耕地，利用滩涂、盐碱地、荒漠等，以及海水、荒漠地区的地下水等，就可以大规模地开发“微藻油田”，不会与农作物争地、争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微藻在培养过程中还可固定大量二氧化碳，因此，利用微藻制造生物柴油能大量减少二氧化碳排放。据计算，每培养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吨微藻，需要消耗约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吨二氧化碳。此外，微藻在光自养培养过程中可利用废水中的氮、磷等营养成分，从而降低水体的富营养化，因此，微藻还能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用于净化工厂排放的废水和城市生活污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现在，我国已启动了微藻能源方面的首个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97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项目“微藻能源规模化制备的科学基础”。该项目有望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年时间内开发出一个“微藻资源库”，提供适合在我国不同地方、不同气候条件下生长的藻株。今后，各地在建设“徵藻油田”时，就可在资源库中挑选合适的微藻品种。该项目还将深入研究微藻产品的机理，力争提高微藻产油的效率，降低它的成本。此外，该项目还将通过对光生物反应器、培养工艺、采收、油脂加工及藻细胞综合利用的研究，建立一套中试系统，全面评估微藻产油的技术指标、经济指标和环境指标，大力推动我国微藻能源的产业化进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</a:rPr>
              <a:t>微 藻——可循环的“绿色油田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第②段除了指出微藻是古老的低等植物外，还介绍了微藻哪四个特点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第③段主要运用了哪两种说明方法？有什么好处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我国“微藻能源规模化制备的科学基础”研究项目，要解决哪些问题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．从全文看，为什么说微藻能源是“可循环”的、“绿色”的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．巩固字词：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萌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méng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piā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孕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ù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衍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ǎ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蟾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chá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脊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ǐ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栖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qī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骸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hái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褶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zhě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劫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i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溯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sù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藩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fān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咎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jiù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绮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qǐ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，殷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yā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销声匿迹  风雪载途  周而复始  相安无事  天衣无缝  在劫难逃　五彩斑斓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束手无策  物竞天择　无动于衷  变化多端  日薄西山　气息奄奄  拍案叫绝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永无止境　为所欲为  与日俱减  草长莺飞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（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）①愿意是不公开讲话，不公开露面。这里指昆虫都无声无息、无影无踪了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②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比喻事物的细致周到，严密完备，找不出破绽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③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旧指盗贼盘踞山林。啸聚，形容其互相呼叫，拉帮结伙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④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拍着桌子大为赞赏地叫好。形容赞赏之极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⑤</a:t>
            </a:r>
            <a:r>
              <a:rPr b="1" lang="zh-CN" sz="2000" spc="-1" strike="noStrike">
                <a:solidFill>
                  <a:srgbClr val="003300"/>
                </a:solidFill>
                <a:latin typeface="Garamond"/>
              </a:rPr>
              <a:t>意思是太阳快要落山了，比喻衰老的人即将死亡或腐朽的事物即将没落。薄，迫近、靠近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．⑴竺可桢　气象学　地理学　《物候学》　《竺可桢文集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⑵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谈家桢 遗传学专家 遗传学 科学家 教育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⑶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阿西莫夫  美　科普  科学幻想  雨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⑷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只是近黄昏 李商隐 《登乐游原》 虽然夕阳无限美好，可惜的是已接近黄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物候现象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逻辑顺序。作者把决定物候现象的四个因素按照影响程度，由大到小，依次排列，纬度影响最大，经度次之，高下差异又次之，古今差异最次。另外，纬度和经度是在地球上位置的不同，第三个因素是同一个地点的高下差异，这三者都是空间因素，最后一个则是时间因素，从空间方面到时间方面又是一种排列顺序。这样安排使文章条理清晰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本文大量使用“举事例”的说明方法，例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：“北京的物候记录，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1962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年的山桃……这种损失就可能避免。”说明物候对于农业的重要性。本段也使用了列数据的说明方法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4</a:t>
            </a:r>
            <a:r>
              <a:rPr b="1" lang="zh-CN" sz="2000" spc="-1" strike="noStrike">
                <a:solidFill>
                  <a:srgbClr val="ffcc00"/>
                </a:solidFill>
                <a:latin typeface="Garamond"/>
              </a:rPr>
              <a:t>．本文语言准确、生动、典雅。开头一段将大自然一年四季的物候景观写得生动形象，这是一种描写的方法，给读者展现了一幅四季风景画。第二段的“草木荣枯，候鸟去来”和“花香鸟语，草长莺飞”两组词，一句四字，极其概括、雅致，文气扑面。此外，文章语言准确、严谨，体现了说明文语言的科学性。如第三段中“古代流传下来的许多农谚就包含了丰富的物候知识”一句中的“许多”一词说数量，有范围，不一概而论，措词严谨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Garamond"/>
                <a:ea typeface="楷体_GB2312"/>
              </a:rPr>
              <a:t>复习课答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1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分布广泛，种类繁多，生长快速，富含油脂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作比较，列数字。作比较使微藻的优点更突出，列数字使说明更准确，增强了文章的科学性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3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① 提供适合在我国不同地方、不同气候条件下生长的藻株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②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深入研究微藻产品的机理，提高产油的效率，降低成本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③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综合利用研究，建立一套中试系统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4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．① 微藻的生长周期短，油脂产率高，不会与农作物争地、争水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② </a:t>
            </a:r>
            <a:r>
              <a:rPr b="1" lang="zh-CN" sz="2400" spc="-1" strike="noStrike">
                <a:solidFill>
                  <a:srgbClr val="cc00cc"/>
                </a:solidFill>
                <a:latin typeface="Garamond"/>
              </a:rPr>
              <a:t>培养微藻可以固定大量二氧化碳，减少二氧化碳排放。降低水体的富营养化，还可以净化废水和污水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第四单元大都是科普文，是介绍科学知识的事理说明文</a:t>
            </a: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,</a:t>
            </a:r>
            <a:r>
              <a:rPr b="0" lang="zh-CN" sz="5400" spc="-1" strike="noStrike">
                <a:solidFill>
                  <a:srgbClr val="a886e0"/>
                </a:solidFill>
                <a:latin typeface="Garamond"/>
                <a:ea typeface="隶书"/>
              </a:rPr>
              <a:t>因此要着重了解说明的事理，说明的顺序、方法及语言的特点。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99"/>
                </a:solidFill>
                <a:latin typeface="Garamond"/>
              </a:rPr>
              <a:t>教学目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积累本单元重点字词及相关文体知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了解说明文学习的五个方面，提高阅读课外短文的能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Garamond"/>
              </a:rPr>
              <a:t>．培养注重观察、讲究实证的科学态度，求真创新的科学精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⒈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巩固字词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⑴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给红色字注音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萌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发（   　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翩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然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孕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育（  　  ）繁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衍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蟾蜍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　 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脊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椎（ 　   ）两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栖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遗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骸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褶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皱（ 　 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劫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难（ 　 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追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溯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　 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藩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篱（  　  ）归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咎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绮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丽（  　  ）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殷</a:t>
            </a:r>
            <a:r>
              <a:rPr b="1" lang="zh-CN" sz="3200" spc="-1" strike="noStrike">
                <a:solidFill>
                  <a:srgbClr val="333399"/>
                </a:solidFill>
                <a:latin typeface="Garamond"/>
              </a:rPr>
              <a:t>红（  　  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⑵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填空组成四字词语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 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   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声匿迹   风雪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途    周而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相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无事   天衣无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在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难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五彩斑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手无策   物竞天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无动于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变化多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 日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西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   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气息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拍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叫绝　永无止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　为所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为   与日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减    草长</a:t>
            </a:r>
            <a:r>
              <a:rPr b="1" lang="zh-CN" sz="3200" spc="-1" strike="noStrike" u="sng">
                <a:solidFill>
                  <a:srgbClr val="a886e0"/>
                </a:solidFill>
                <a:uFillTx/>
                <a:latin typeface="Garamond"/>
              </a:rPr>
              <a:t>　　</a:t>
            </a:r>
            <a:r>
              <a:rPr b="1" lang="zh-CN" sz="3200" spc="-1" strike="noStrike">
                <a:solidFill>
                  <a:srgbClr val="a886e0"/>
                </a:solidFill>
                <a:latin typeface="Garamond"/>
              </a:rPr>
              <a:t>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</a:rPr>
              <a:t>自主预习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⑶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解释下列词语的意思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①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销声匿迹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   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②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天衣无缝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③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啸聚山林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   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④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拍案叫绝：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Garamond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⑤</a:t>
            </a:r>
            <a:r>
              <a:rPr b="1" lang="zh-CN" sz="3200" spc="-1" strike="noStrike">
                <a:solidFill>
                  <a:srgbClr val="cc3399"/>
                </a:solidFill>
                <a:latin typeface="Garamond"/>
              </a:rPr>
              <a:t>日薄西山：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Garamond"/>
              </a:rPr>
              <a:t>文学常识填空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⑴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大自然的语言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我国现代卓越的科学家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　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家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家。主要著作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　　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　　　　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⑵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奇妙的克隆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浙江宁波人，国际著名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我国现代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奠基人之一，是一位杰出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　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⑶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《阿西莫夫短文两篇》作者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，是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国著名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作家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小说家。曾获代表科幻界最高荣誉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奖和星云终身成就“大师奖”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⑷“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夕阳无限好，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　　　 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”语出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　 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的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　　　　 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。意思是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Garamond"/>
              </a:rPr>
              <a:t>      　　　　</a:t>
            </a:r>
            <a:r>
              <a:rPr b="1" lang="zh-CN" sz="28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00"/>
                </a:solidFill>
                <a:latin typeface="Garamond"/>
              </a:rPr>
              <a:t>阅读事理说明文的方法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①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对象：事理及其事理的证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②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顺序：时间顺序、空间顺序、逻辑顺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③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方法：举例子、列数字、打比方、作引用、分类别，下定义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④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说明的语言：准确以及其它特点（如：平实，生动，典雅等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  <a:ea typeface="楷体_GB2312"/>
              </a:rPr>
              <a:t>例文分析：大自然的语言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⒈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本文的说明内容是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⒉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本文采用了怎样的说明顺序？结合课文内容详细解释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⒊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写出本文运用的说明方法，并分析其作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⒋</a:t>
            </a:r>
            <a:r>
              <a:rPr b="1" lang="zh-CN" sz="3200" spc="-1" strike="noStrike">
                <a:solidFill>
                  <a:srgbClr val="996633"/>
                </a:solidFill>
                <a:latin typeface="Garamond"/>
              </a:rPr>
              <a:t>试在本文中找出几处语句，分析其语言的特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2:07:08Z</dcterms:created>
  <dc:creator>Administrator</dc:creator>
  <dc:description/>
  <dc:language>en-US</dc:language>
  <cp:lastModifiedBy>Administrator</cp:lastModifiedBy>
  <dcterms:modified xsi:type="dcterms:W3CDTF">2014-08-04T00:55:42Z</dcterms:modified>
  <cp:revision>14</cp:revision>
  <dc:subject/>
  <dc:title>幻灯片 1</dc:title>
</cp:coreProperties>
</file>